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1290-2031-47BF-A3E7-175AAE85D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3073-0484-41F4-AD6F-FCC785CF9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E740-237C-4A3C-B170-4C39355E3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198D-3BDE-4AAF-9FD9-2CBC2D98F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9138-3D8C-4AC4-B173-646E099CD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46B2-8C54-4054-AD56-D6E2B6CA8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2343-39AB-4A64-A22F-B7E984D39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EE5E-E589-419C-B71B-040FB291E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5B70-D4E0-421C-BEB1-827222DD2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D2AE-C069-4D7A-814A-40DE4D58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7686-0A82-492A-BAB8-2DA0787B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80CE-5F8F-4963-B817-BB1D95EF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E16C0-0549-4A6F-B040-AE1D389391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pter 5 – India Vocabul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lan Sailors and a picture goes 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6"/>
          <p:cNvSpPr/>
          <p:nvPr/>
        </p:nvSpPr>
        <p:spPr>
          <a:xfrm>
            <a:off x="685800" y="426708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zong- a Buddhist center of prayer and st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6"/>
          <p:cNvSpPr/>
          <p:nvPr/>
        </p:nvSpPr>
        <p:spPr>
          <a:xfrm>
            <a:off x="52560" y="-885960"/>
            <a:ext cx="253332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http://t0.gstatic.com/images?q=tbn:ANd9GcQ9aZ-GBd2B62Bu4VFb3Rq5lDMbmbIo6rykJxYJRrXcv8Y211jp"/>
          <p:cNvPicPr/>
          <p:nvPr/>
        </p:nvPicPr>
        <p:blipFill>
          <a:blip r:embed="rId1"/>
          <a:stretch/>
        </p:blipFill>
        <p:spPr>
          <a:xfrm>
            <a:off x="1523880" y="631800"/>
            <a:ext cx="365760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contin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arge landmass that is part of a continent but distinct from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2905200" y="1514520"/>
            <a:ext cx="33336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6"/>
          <p:cNvSpPr/>
          <p:nvPr/>
        </p:nvSpPr>
        <p:spPr>
          <a:xfrm>
            <a:off x="609480" y="32767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soon – A  seasonal wind that blows for months at a time, affecting the clim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http://t2.gstatic.com/images?q=tbn:ANd9GcT_HkTwlS8v9Yh4LbrEWSG7lHAgikukMmdigrhxRt7sC-53ZpGH0Q"/>
          <p:cNvPicPr/>
          <p:nvPr/>
        </p:nvPicPr>
        <p:blipFill>
          <a:blip r:embed="rId1"/>
          <a:stretch/>
        </p:blipFill>
        <p:spPr>
          <a:xfrm>
            <a:off x="2362320" y="304920"/>
            <a:ext cx="472428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6"/>
          <p:cNvSpPr/>
          <p:nvPr/>
        </p:nvSpPr>
        <p:spPr>
          <a:xfrm>
            <a:off x="1219320" y="38862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te- a plant fiber used for making rope, burlap bag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http://t3.gstatic.com/images?q=tbn:ANd9GcTeKQ50e8oHh1WA9xrmigWSG2ffAs7wZd8K8kHeIJI2PetxkAQG"/>
          <p:cNvPicPr/>
          <p:nvPr/>
        </p:nvPicPr>
        <p:blipFill>
          <a:blip r:embed="rId1"/>
          <a:stretch/>
        </p:blipFill>
        <p:spPr>
          <a:xfrm>
            <a:off x="2362320" y="376200"/>
            <a:ext cx="3886200" cy="25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6"/>
          <p:cNvSpPr/>
          <p:nvPr/>
        </p:nvSpPr>
        <p:spPr>
          <a:xfrm>
            <a:off x="1371600" y="37339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ttage Industry-  a home or village based industry where family members make their goo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http://t3.gstatic.com/images?q=tbn:ANd9GcTkrtvjgvK8o8AH5YLKDGfTdl3T10ivjloVCWdphOStcfuBNt_DYA"/>
          <p:cNvPicPr/>
          <p:nvPr/>
        </p:nvPicPr>
        <p:blipFill>
          <a:blip r:embed="rId1"/>
          <a:stretch/>
        </p:blipFill>
        <p:spPr>
          <a:xfrm>
            <a:off x="2743200" y="533520"/>
            <a:ext cx="434340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7"/>
          <p:cNvSpPr/>
          <p:nvPr/>
        </p:nvSpPr>
        <p:spPr>
          <a:xfrm>
            <a:off x="1219320" y="648828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tes – your social class that is based  on your ances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http://t2.gstatic.com/images?q=tbn:ANd9GcTXEWPKKY2g951PjnhNinJqf4x-xe-R47YrKYtYW6vs03hPMxnx"/>
          <p:cNvPicPr/>
          <p:nvPr/>
        </p:nvPicPr>
        <p:blipFill>
          <a:blip r:embed="rId1"/>
          <a:stretch/>
        </p:blipFill>
        <p:spPr>
          <a:xfrm>
            <a:off x="0" y="0"/>
            <a:ext cx="86868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6"/>
          <p:cNvSpPr/>
          <p:nvPr/>
        </p:nvSpPr>
        <p:spPr>
          <a:xfrm>
            <a:off x="990720" y="4572000"/>
            <a:ext cx="716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incarnation – a belief in the rebirth of a person’s soul in a new body after dea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http://t1.gstatic.com/images?q=tbn:ANd9GcRAjoizPtMpZc30iyBt2-3htMhCI1L-4GW3khekwxjRTqICL90cGg"/>
          <p:cNvPicPr/>
          <p:nvPr/>
        </p:nvPicPr>
        <p:blipFill>
          <a:blip r:embed="rId1"/>
          <a:stretch/>
        </p:blipFill>
        <p:spPr>
          <a:xfrm>
            <a:off x="2743200" y="533520"/>
            <a:ext cx="350532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7"/>
          <p:cNvSpPr/>
          <p:nvPr/>
        </p:nvSpPr>
        <p:spPr>
          <a:xfrm>
            <a:off x="685800" y="449568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clone – an intense storm with heavy rain and high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6"/>
          <p:cNvSpPr/>
          <p:nvPr/>
        </p:nvSpPr>
        <p:spPr>
          <a:xfrm>
            <a:off x="52560" y="-863640"/>
            <a:ext cx="2600280" cy="17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8"/>
          <p:cNvSpPr/>
          <p:nvPr/>
        </p:nvSpPr>
        <p:spPr>
          <a:xfrm>
            <a:off x="52560" y="-863640"/>
            <a:ext cx="2600280" cy="17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0"/>
          <p:cNvSpPr/>
          <p:nvPr/>
        </p:nvSpPr>
        <p:spPr>
          <a:xfrm>
            <a:off x="52560" y="-863640"/>
            <a:ext cx="2600280" cy="17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2" descr="http://www.mapsofworld.com/hurricane/mechanism-of-tropical-cyclone.jpg"/>
          <p:cNvPicPr/>
          <p:nvPr/>
        </p:nvPicPr>
        <p:blipFill>
          <a:blip r:embed="rId1"/>
          <a:stretch/>
        </p:blipFill>
        <p:spPr>
          <a:xfrm>
            <a:off x="1447920" y="304920"/>
            <a:ext cx="50767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6"/>
          <p:cNvSpPr/>
          <p:nvPr/>
        </p:nvSpPr>
        <p:spPr>
          <a:xfrm>
            <a:off x="1066680" y="396252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ticides- powerful chemicals that kill crop destroying ins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6"/>
          <p:cNvSpPr/>
          <p:nvPr/>
        </p:nvSpPr>
        <p:spPr>
          <a:xfrm>
            <a:off x="52560" y="-1182600"/>
            <a:ext cx="188568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http://t3.gstatic.com/images?q=tbn:ANd9GcT3JKUmKIeACBql6995n97MQgJTCWdu_TmVS_4yf9f0ll9pYjc87w"/>
          <p:cNvPicPr/>
          <p:nvPr/>
        </p:nvPicPr>
        <p:blipFill>
          <a:blip r:embed="rId1"/>
          <a:stretch/>
        </p:blipFill>
        <p:spPr>
          <a:xfrm>
            <a:off x="1828800" y="380880"/>
            <a:ext cx="579132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8T15:45:15Z</dcterms:created>
  <dc:creator>poweruser</dc:creator>
  <dc:description/>
  <dc:language>en-US</dc:language>
  <cp:lastModifiedBy>BHISD</cp:lastModifiedBy>
  <dcterms:modified xsi:type="dcterms:W3CDTF">2011-12-09T15:59:43Z</dcterms:modified>
  <cp:revision>6</cp:revision>
  <dc:subject/>
  <dc:title>Chapter 5 – India Vocabulary</dc:title>
</cp:coreProperties>
</file>